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463-4E46-4263-AE10-DF2F38E129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8F6-8A5D-40DA-A5D4-7767B4828B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B764-FC5A-43B8-806C-154E1B8B2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3523-E480-43A9-BAD6-143A3017A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CCE-3849-4215-95B2-9AF56AE4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695-9BD8-4D7C-B4D3-6B498F9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A9825-7E68-41FB-88DC-8059716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AE0B3-0FF7-4DE2-9A34-27D4CF21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25708-BDB0-4A8C-BF34-9A92E08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9EA4F-B0AB-413C-8316-DB3163E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035AC-EB7E-42E2-9AF0-0A9659B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ECBD9-9B6B-4149-8814-FCE10E2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A8FA-ECC9-4CE1-92E5-8C7E4BB6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C9FAB-5813-41A0-87B6-9C8A3FFC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CF404-3EB9-4C26-8FF8-BB49140E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CA318-522F-4FE6-B92A-F308FBC6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CE2-27CD-469E-998B-B8C2716E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40B86-E9E7-4CBE-8BC8-860090D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9048E-844F-4694-AA77-34630319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ADB78-F307-428A-AF85-9E10A71C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701B3-0F2B-4208-B5B8-80781376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2CA7C-6671-40E7-8932-0EB4BBD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C5A57-938E-4FD9-9EB2-4A31087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CEFD8-BBE7-4AC4-ACCA-270101B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30487-45A4-4E29-B51B-6EE1BE9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EEC76-2E6C-4D73-B8A1-79B80EAA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02A00-30E3-4676-8CB1-C4E33100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501-C31B-4AF8-87B0-DEB6F1BB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106B1-5300-4575-B780-90974DF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3C0A6-4554-4560-90CE-E047CE8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149B3-33CC-4EBE-9287-18983F4D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7C896-EC61-4664-AADB-BE43565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22730-D8FF-4B9D-ACE6-E0C2807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31A1-FE29-49BE-978F-13DAE1C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3E7B7-7390-49C0-9D30-4FAE69A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D1AB-F7AF-4635-9322-64B82E2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A94F-C326-4D83-91E7-6B50E864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5D8B5-AB75-4C79-85C9-884F575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92E-7C20-4861-8F82-09E9FAF1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1E268-939F-4038-BE17-AA28486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AB37F-B0A6-40E3-A6C5-AF06C114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A9CE7-3736-407A-81D0-8B766059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84C96-7395-4C01-9E13-D5579406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E6A1D-2EDF-4B1D-AED6-C4F00853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42714-6997-457B-9303-797406A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E262C-E7C3-4A83-A91B-5BCF7948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EA8F7-5D20-4A31-80B0-D7ED2884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B4D4A-8EAE-455C-9AF9-8044BFCD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E87B3-3B2B-417F-A252-921C9A3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66BF-34C9-4C19-AD9B-C9903462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6FD81-EDA3-4FF7-AC70-4A3C483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3C36E-18EF-4BA6-B43D-AC383DCE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23637-747A-4FC3-92B9-B065F5E0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2E06E-6C79-4A4E-8CEA-12CA066D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680E8-3673-4A49-9A4A-5AFB82E8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E86-E9BE-4C15-B9A1-A309BC1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9E02-D02A-4CAB-8E89-B5865755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7029-6C1F-4B59-A6FA-CCC3CB1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C919-6744-457F-8283-7BE486D5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CD47-B07D-4742-9B5F-AF0322C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2F7-57F9-43C5-8BDE-135688D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29CB-3D04-416E-92EB-7C5DFF1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8BA2-0932-4B1E-A291-CC88C91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CF0-56A2-49A2-BBE2-E5DCE00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03B4-7E99-4DF4-903B-D0526D59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C26C-F14C-4929-B443-726346EF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D1F2-416A-40BB-8AE4-6C2C231F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87B6-E735-4C71-856A-8136FA23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1B0C-BDCF-4F6C-94A9-496C896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26D9-7F21-48C2-AFDC-2973A571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28C8-3343-44E6-835D-81281896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B2C-E246-4C46-906B-D04C255A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4DC6-8649-4C65-8EE3-AC64DB45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7EE9-15BC-4F98-89DD-C013BA2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87E9-3E2B-464F-A249-9D3B778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952D-E9EC-447C-BB98-2C5C2773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23A7-AB8E-441C-AF90-C88386B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8245-4F5E-470B-BC8F-9EA03E7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769D-20E6-4A75-8E7C-C8E2FB8C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14F3-1C95-4FA8-AE60-12A7B4EE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C810-7C5F-491C-8E7C-BB7BDC8E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6AF6-6A96-4389-9C2D-DB881949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079-4408-4A04-AAEA-F85E404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D6BB-82D3-4DD9-8BEF-D71A9986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D92F-D065-4E85-B029-26B8AEE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FDB4-8DBA-47B6-8014-812981B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C885-1E46-43E7-9DEF-6D453283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E92B-1611-438A-8431-466CA4C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CBA9-9FAE-4A4D-80AC-D58304B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FE4D-FADB-475A-8FD5-1F9DF9B7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8794-604B-4418-96F2-E05577C2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0178-A4CB-494E-AC97-8798FC74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7DC3-9DC9-4F53-90A6-F79AA106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22D-943F-4B31-93CE-2AE33F7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D9A6-36F6-4E75-8D25-A980E5F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EFE53-9D4C-4EFB-943C-5E0CB911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ED24-7334-465D-A538-76FB091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0BC1-A5BE-4EAA-BDD4-DB2907A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64FB-B6B1-4EC3-912C-B0C5FA8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DAAF-7D21-4E22-B34E-551A992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F28C-B877-42F0-956C-4C4183F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44704-28C3-40A8-BEFE-858FD88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C3D3-F7BC-4096-A224-00A3299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3422-8B74-41FC-A2B7-71E41B8B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F49-2154-40BD-89A4-3B4EC4B8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CD2D-0666-4B8A-8B29-19EFE6A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613F-C585-4783-8D0F-7B930E5A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4A76D-F12C-44D3-A929-3B590CBF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5AE8-53D0-4189-BA83-98660358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114B-7791-4CDD-8C45-FCBF0BF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7ACC-DA88-4AC0-8CD9-961CA38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1E17-93FD-43FD-99F9-C2B66B6E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2163-0C64-43BA-93E9-3235890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2AA70-63BC-4BAE-8B28-F711FAB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D6E2-7F2C-4780-90FD-A43EA22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F39-1899-43BC-A358-496FACA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A6C5-57C4-4E94-8486-DA31CDD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0943-6130-4390-A2FC-0CC1DE09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2B60-3932-42DF-9852-5C2B1716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9AD9-F586-4C54-9B48-A8250E95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0589-CBEC-491B-A4FC-5E1812A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D71F-8F6A-4814-A664-EE1399E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3798-DF6C-4996-9AD5-4D7080BC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C79D-821B-48E3-90DA-0D342774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AE04-9DC6-4305-8465-F701D5E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394A-81A0-420D-BFEE-22ECBCA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F15-5879-4D9F-9624-0C351AE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96C8-27DE-488A-91E1-36A805B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ACB8-DE28-49D9-918C-AFAD79F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F225-885D-46FA-8F77-C850BE8B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7C52-8B8E-44F5-8C01-AA0B6E6A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A83F-679E-4D5D-BC80-96EA056A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DB9B-517C-47AE-A118-75ADCD2F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3BF2-2B4B-42DC-9965-22DB8167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1116F-8F9E-47EA-83CD-A42E432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48A03-FB91-4A11-9B6B-3239C159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6CBCD-7C00-4F9B-980A-3783335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762-F5A0-4FF8-95BA-E5BD61D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CE3B-F4A4-4E16-AAEA-6CB8A6C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3274-68CD-4F86-993B-AAAF06D7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F03D0-45CD-4748-964B-CEAEA2B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6D3F4-FDED-479D-A4DF-65959F0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6E3A-B878-4696-938C-712ECED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DC53-70C6-4907-89F3-90D21684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D6E50-5024-49F0-A92D-F6561359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D1E52-4EBF-482E-9D96-848561B2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E779A-514B-4BEC-9858-D992F306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83FEF-58D6-49DB-8661-E7918BD0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0AF-2595-4616-AEC5-C1A5B5D8904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192-10F7-47F1-83A0-9E28D9E40D82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3884-534A-4CC1-B924-F360739D3E07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5E6-E9F0-4A57-8D85-637EE20AC37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046-A40D-4684-903F-4AE5D4C305D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1E6-6139-4847-947D-01D9DE2C546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C584-7DDD-471C-9F48-78D5E3D4774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B1D-F17F-458E-A663-B1B00B58715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3AD-2E7B-4029-B10E-331E4C77C5A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864-50A8-486D-A269-AF460EDA992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A64-BB7B-4A73-B8FF-60C3114AA2EC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D4C-1465-4927-8B29-C74E5E72C4B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aalonderwijs.nl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FASE 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erkring POW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boe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chternamen auteurs, voorletter (jaar van uitgave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Georgia"/>
              </a:rPr>
              <a:t>Volledige titel, eventueel subtitel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. Plaats: uitgev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eorgia"/>
              </a:rPr>
              <a:t>Tomesen, M. &amp; Kleef, M.  van (2002). </a:t>
            </a: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Werken aan taalbewustzijn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Prototype voor het stimuleren van fonologisch bewustzijn i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Georgia"/>
              </a:rPr>
              <a:t>betekenisvolle contexten.</a:t>
            </a:r>
            <a:r>
              <a:rPr b="0" lang="nl-NL" sz="2200" spc="-1" strike="noStrike">
                <a:solidFill>
                  <a:srgbClr val="000000"/>
                </a:solidFill>
                <a:latin typeface="Georgia"/>
              </a:rPr>
              <a:t> Nijmegen: Expertisecentrum Nederland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internetbronn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chternaam auteurs, voorletter (publicatiejaar of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pdate). Titel  van het document of de websit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raadpleegd op  de dag maand jaar, adres web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Georgia"/>
              </a:rPr>
              <a:t>Voorbeel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mhuis, R. &amp; Litjens, P. (2000). 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ragen? Ge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ragen!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Geraadpleegd op 7 oktober 2009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taalonderwijs.nl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wijzen naar kranten- en tijdschri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chternaam auteurs, voorletter  (jaar v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itgave). Titel artikel, eventueel subtitel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. Naa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van het tijdschrift of kran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, nummer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ginanummer(s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Georgia"/>
              </a:rPr>
              <a:t>Voorbeel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mhuis, R. &amp; Litjens. P. (2003). Drie werkwijz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mondelinge taalontwikkeling. </a:t>
            </a: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Taal Lez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Georgia"/>
              </a:rPr>
              <a:t>Primair, nr. 10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, p17-19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an de sla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oolontwikkeltaak (context stageschoo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lopige onderzoeksvr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elvra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 zoek naar goede literatuu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 je nu do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nemen stappenplan en Kallenberg e.a., hfdst. 3 en 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an het werk met Stap 1 en 2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oriëntatie op bruikbare literatuu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eel belangrijk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kaars werk beoordelen en feedback gev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S van elkaar overnemen of doorgeven aan anderen ivm fraud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óór de volgende bijeenkom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1 en 2  in concept uitwerken, eventueel al stap 3 zetten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1: Het probleem in kaart bren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2: De onderzoeksvraa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Stap 3: Keuze van instrumenten én de onderbouwing hiervan met literatuur over het onderwerp én over onderzoek doen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Mail je werk vooraf naar de leerkringgroep én de doce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Neem elkaars stukken vóór de bijeenkomst door en noteer feedback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succes!       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Een leerkring: wat, hoe en waarom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öperatieve vorm van begelei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fficiënter, grotere opbreng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teractief leren / feedbac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esentatie en beoor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e onderne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ontwikkelingsagenda van de stageschool als uitgangspu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band met beroepsrollen en competen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zoekscyclus in het ko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steuning in de leerkring en op de stagescho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lanning van de bijeenkom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 bijeenkomsten vinden plaats op vrij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en bijeenkomsten ingepland in het rooster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ussendoor samenkomen kan op eigen initiatie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ndfeedback is nodig vóór je kunt present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krijgt twee keer feedback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assessment 4.1 stap in ieder geval stap 1 t/m 3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assessment 4.2. het hele onderzo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je feedback hebt gehad presenteer je je onderzoek in de leerkring en krijg je feedback van de groe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aste opbouw werkwijze leerkr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1. Openings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Mededeling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gendapunten vaststell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Tijdsplanning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2. Huishoudelijke 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Organisati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3. Inhoudelijke ronde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Bespreken van de stukk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Vragen beantwoorde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Komen tot een gezamenlijke feedback (actieve deelname!!!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eorgia"/>
              </a:rPr>
              <a:t>3. Slotronde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fronding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eorgia"/>
              </a:rPr>
              <a:t>Afspraken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derzoeksstapp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kwaliteit onderzoeksstapp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1: </a:t>
            </a: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schoolontwikkelingstaak, ambitie, behoefte,  probleem,  do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2: onderzoeksvraa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3: keuze onderzoeksinstrument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4: informatie verzamel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5: betekenis verlen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6: consequenties vastlegg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7: actie ondernem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Stap 8: evaluatie acti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nen en hulpmiddelen op de EL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appenplan Collectief Actieonderzo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elfhulppakket bij onderzo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zoeksvaardigheden m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beelden (PPT 0809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.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llenbe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C:\Documents and Settings\janv.ORGDOMSTAD.002\Bureaublad\9789006955125[1].jpg"/>
          <p:cNvPicPr/>
          <p:nvPr/>
        </p:nvPicPr>
        <p:blipFill>
          <a:blip r:embed="rId1"/>
          <a:stretch/>
        </p:blipFill>
        <p:spPr>
          <a:xfrm>
            <a:off x="6215040" y="2571840"/>
            <a:ext cx="2411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iteratuurstud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rg voor een degelijke literatuurstudie!!!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iteratu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b050"/>
                </a:solidFill>
                <a:latin typeface="Georgia"/>
              </a:rPr>
              <a:t>Zorg voor een degelijke literatuurstudie!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ff0000"/>
                </a:solidFill>
                <a:latin typeface="Georgia"/>
              </a:rPr>
              <a:t>Een tekst gebruiken zonder bronvermelding is plagiaat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rafraseren: in eigen woorden weerg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iteren: letterlijk overnemen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tussen aanhalingstekens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ld de bron na een parafrase en cita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s de APA no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 aan het eind altijd een bronnenlijs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e website fase 4: onderneming, literatuurverwijzing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40:02Z</dcterms:created>
  <dc:creator>Ingrid Wijskamp</dc:creator>
  <dc:description/>
  <dc:language>en-US</dc:language>
  <cp:lastModifiedBy>jose.sagasser</cp:lastModifiedBy>
  <dcterms:modified xsi:type="dcterms:W3CDTF">2010-10-11T10:30:00Z</dcterms:modified>
  <cp:revision>17</cp:revision>
  <dc:subject/>
  <dc:title>Leerkring Taal</dc:title>
</cp:coreProperties>
</file>